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05E-EB62-4A8D-82CF-E1741D40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0F6-098C-4833-9CC5-B6968373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C91-B198-403A-9BFF-E0897F02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F48-9769-474D-971F-3B4268A2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D92B-44F7-4908-AE80-4850DE42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39DA-536B-4AD2-8F8D-95F953D6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DD12-AD9F-4E9D-8725-40111CD1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1039-836B-43FD-ACDF-93A3F2CF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087-E97A-4376-B6DE-C5CE3A8B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7B51-241A-4B2F-9A80-C13CA5E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0382-1FD9-429C-90E0-05ACB487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628-5A86-4860-A6E4-E45EA081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932-977D-4C03-89EF-03CB765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38B3-0B5A-45CC-A022-DC2524B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121-B2AD-49C5-BCCA-780F94CE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4460-DD30-4136-A4C6-0BFDDBB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6DAC-FAA2-4B6B-A032-6E796498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8F3-61C2-4467-8AC8-51184DC9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857-E8DC-41C9-8C5A-FE43BEA2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636-08CF-4983-9330-AF0CA1D5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74A-FFDE-4A77-9A60-1384A0EA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9CB-4677-42EA-B212-266E634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FC5-9F03-48F6-B87B-A82D1879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DC7-4E97-4C2C-9FA1-E3AD12F3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397D-5657-4FEC-A88F-C69DD79CCD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9B93-D60F-4CD0-B7F2-BB1F4A2E6B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</a:rPr>
              <a:t>O Natal no mund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 advTm="3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véspera de Natal os vizinhos se unem para cantar canções, mostrando o espírito de confraternização. As crianças penduram meias na larei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76720" y="4221000"/>
            <a:ext cx="2371680" cy="1933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n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crianças da Índia decoram pés de manga e bananeiras no Natal. Pequenas lâmpadas de argila servem para decorar as cas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67280" y="40766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Natal é ligado ao nosso, com missa e ceia. As crianças esperam Papai Noel colocar presentes em seus sap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72360" y="115920"/>
            <a:ext cx="213336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2133720" cy="2143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el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cidade onde JESUS nasceu. O Natal é comemorado com peregrinos e tribos árabes, que se ajoelham na crípta dos franciscanos para adorar um berç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16360" y="44370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undo a tradição, esse é o berço de JES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2419200" cy="1895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22:40:55Z</dcterms:created>
  <dc:creator>VALERIA</dc:creator>
  <dc:description/>
  <dc:language>en-US</dc:language>
  <cp:lastModifiedBy>VALERIA</cp:lastModifiedBy>
  <dcterms:modified xsi:type="dcterms:W3CDTF">2010-12-02T20:42:31Z</dcterms:modified>
  <cp:revision>3</cp:revision>
  <dc:subject/>
  <dc:title>O Natal no mundo</dc:title>
</cp:coreProperties>
</file>